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BF0-F995-434E-BE50-0157B035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229-CB48-4F78-8072-CD2EE2E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8CC-54DC-40D1-8B74-7F206B5B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4CC-C3FC-4C1B-A9DF-4E8D3748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907-9098-4802-AF24-17585F7A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146-F4F7-4071-B0F9-BC0C347C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C30-70DA-4491-A36A-0AFDCC93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6A7-A368-4C3E-95CE-FEEEE04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C1F-B79E-445E-9B58-C0232108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4F8-7072-4B61-8DE1-7DF481B5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B69-DE5C-4C53-8305-9A9CB82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CC2-1BA0-4AB8-8E7B-97C40E1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217-49CC-4055-8259-0EFF3584DB55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02080" y="2487600"/>
            <a:ext cx="1667160" cy="1248120"/>
            <a:chOff x="3502080" y="2487600"/>
            <a:chExt cx="1667160" cy="1248120"/>
          </a:xfrm>
        </p:grpSpPr>
        <p:sp>
          <p:nvSpPr>
            <p:cNvPr id="42" name=""/>
            <p:cNvSpPr/>
            <p:nvPr/>
          </p:nvSpPr>
          <p:spPr>
            <a:xfrm>
              <a:off x="3633840" y="2487600"/>
              <a:ext cx="45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58000" y="2489040"/>
              <a:ext cx="101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bstract (model)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02080" y="347832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ullNam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05520" y="3489480"/>
              <a:ext cx="91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crete (real)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833640" y="2725560"/>
              <a:ext cx="324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23200" y="2986200"/>
              <a:ext cx="92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presented b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3:59:27Z</dcterms:created>
  <dc:creator>cheon</dc:creator>
  <dc:description/>
  <dc:language>en-US</dc:language>
  <cp:lastModifiedBy>Yoonsik Cheon</cp:lastModifiedBy>
  <dcterms:modified xsi:type="dcterms:W3CDTF">2003-10-08T15:41:01Z</dcterms:modified>
  <cp:revision>37</cp:revision>
  <dc:subject/>
  <dc:title>PowerPoint 프레젠테이션</dc:title>
</cp:coreProperties>
</file>